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35.wmf" ContentType="image/x-wmf"/>
  <Override PartName="/ppt/media/image59.png" ContentType="image/png"/>
  <Override PartName="/ppt/media/image24.jpeg" ContentType="image/jpeg"/>
  <Override PartName="/ppt/media/image36.jpeg" ContentType="image/jpeg"/>
  <Override PartName="/ppt/media/image57.png" ContentType="image/png"/>
  <Override PartName="/ppt/media/image2.jpeg" ContentType="image/jpeg"/>
  <Override PartName="/ppt/media/image31.png" ContentType="image/png"/>
  <Override PartName="/ppt/media/image29.wmf" ContentType="image/x-wmf"/>
  <Override PartName="/ppt/media/image22.jpeg" ContentType="image/jpeg"/>
  <Override PartName="/ppt/media/image39.png" ContentType="image/png"/>
  <Override PartName="/ppt/media/image64.jpeg" ContentType="image/jpeg"/>
  <Override PartName="/ppt/media/image38.jpeg" ContentType="image/jpeg"/>
  <Override PartName="/ppt/media/image14.jpeg" ContentType="image/jpeg"/>
  <Override PartName="/ppt/media/image54.png" ContentType="image/png"/>
  <Override PartName="/ppt/media/image46.jpeg" ContentType="image/jpeg"/>
  <Override PartName="/ppt/media/image26.wmf" ContentType="image/x-wmf"/>
  <Override PartName="/ppt/media/image51.jpeg" ContentType="image/jpeg"/>
  <Override PartName="/ppt/media/image23.jpeg" ContentType="image/jpeg"/>
  <Override PartName="/ppt/media/image17.gif" ContentType="image/gif"/>
  <Override PartName="/ppt/media/image50.jpeg" ContentType="image/jpeg"/>
  <Override PartName="/ppt/media/image21.jpeg" ContentType="image/jpeg"/>
  <Override PartName="/ppt/media/image61.gif" ContentType="image/gif"/>
  <Override PartName="/ppt/media/image60.jpeg" ContentType="image/jpeg"/>
  <Override PartName="/ppt/media/image16.jpeg" ContentType="image/jpeg"/>
  <Override PartName="/ppt/media/image62.wmf" ContentType="image/x-wmf"/>
  <Override PartName="/ppt/media/image25.jpeg" ContentType="image/jpeg"/>
  <Override PartName="/ppt/media/image32.png" ContentType="image/png"/>
  <Override PartName="/ppt/media/image1.jpeg" ContentType="image/jpeg"/>
  <Override PartName="/ppt/media/image19.jpeg" ContentType="image/jpeg"/>
  <Override PartName="/ppt/media/image15.jpeg" ContentType="image/jpeg"/>
  <Override PartName="/ppt/media/image63.wmf" ContentType="image/x-wmf"/>
  <Override PartName="/ppt/media/image4.png" ContentType="image/png"/>
  <Override PartName="/ppt/media/image18.gif" ContentType="image/gif"/>
  <Override PartName="/ppt/media/image13.jpeg" ContentType="image/jpeg"/>
  <Override PartName="/ppt/media/image8.jpeg" ContentType="image/jpeg"/>
  <Override PartName="/ppt/media/image27.jpeg" ContentType="image/jpeg"/>
  <Override PartName="/ppt/media/image10.jpeg" ContentType="image/jpeg"/>
  <Override PartName="/ppt/media/image58.gif" ContentType="image/gif"/>
  <Override PartName="/ppt/media/image6.jpeg" ContentType="image/jpeg"/>
  <Override PartName="/ppt/media/image5.jpeg" ContentType="image/jpeg"/>
  <Override PartName="/ppt/media/image7.gif" ContentType="image/gif"/>
  <Override PartName="/ppt/media/image52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wmf" ContentType="image/x-wmf"/>
  <Override PartName="/ppt/media/image33.jpeg" ContentType="image/jpeg"/>
  <Override PartName="/ppt/media/image34.jpeg" ContentType="image/jpeg"/>
  <Override PartName="/ppt/media/image42.jpeg" ContentType="image/jpeg"/>
  <Override PartName="/ppt/media/image40.wmf" ContentType="image/x-wmf"/>
  <Override PartName="/ppt/media/image12.jpeg" ContentType="image/jpeg"/>
  <Override PartName="/ppt/media/image37.wmf" ContentType="image/x-wmf"/>
  <Override PartName="/ppt/media/image3.jpeg" ContentType="image/jpeg"/>
  <Override PartName="/ppt/media/image41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8445-9B25-4E09-AD85-4E428629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CD3E-5AD8-436F-AB66-F44A86AB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B385-F294-4C79-B907-8AC285F8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F47E-E20F-47AD-8741-70406D31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97C8-131B-41DA-B67D-741EEE16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B567-5B3C-40FE-9692-3F4BB9F4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C8C1-B86E-4EE3-94F0-958C46EB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76D5-D75D-46C9-A14C-7FBCC0E6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D2B9-8A52-4200-BFD3-6D2098B5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81C4-E8D6-4D8E-AB17-81E1E081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80D3-1B9C-4AD2-84BE-D988DC42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F45A-B889-42DC-A9BF-67A19A91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A611-51D5-4A21-8167-BF53A52E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5B57-D15A-4935-AB8B-1A95A475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89FC-A314-45D0-ADCD-3DD23F49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288D-36AD-4162-9FEC-222F39D3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60D2-D4E1-4DD9-8DB5-DE319742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363-41A4-429A-94C2-4CC2A62D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A3D6-26F1-4C2D-8EFD-1B4690F9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2D2D-AA4A-4F44-9716-64B5BA02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2278-3F24-4847-AAC1-CCE943FF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BF0C-101C-4FC3-898E-E7D1F8DF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6E39-A301-4052-9BBB-3BEF0675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80A5-EE1B-4B4A-ADF1-FDF2AA0A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4615-32A7-41E8-94E6-BA6466B6C47A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9FB1-8B16-4537-94D4-BBCC1C3665EF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psports.com/main.php" TargetMode="External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virtualspectator.com.au/" TargetMode="External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8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gi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ausport.gov.au/" TargetMode="External"/><Relationship Id="rId2" Type="http://schemas.openxmlformats.org/officeDocument/2006/relationships/hyperlink" Target="http://www.find30.com.au/" TargetMode="External"/><Relationship Id="rId3" Type="http://schemas.openxmlformats.org/officeDocument/2006/relationships/hyperlink" Target="http://www.walkingbus.com/" TargetMode="External"/><Relationship Id="rId4" Type="http://schemas.openxmlformats.org/officeDocument/2006/relationships/hyperlink" Target="http://www.newhealth.govt.nz/" TargetMode="External"/><Relationship Id="rId5" Type="http://schemas.openxmlformats.org/officeDocument/2006/relationships/hyperlink" Target="http://www.10000steps.org.au/rockhampton/" TargetMode="External"/><Relationship Id="rId6" Type="http://schemas.openxmlformats.org/officeDocument/2006/relationships/hyperlink" Target="http://www.travelsmart.gov.au/" TargetMode="External"/><Relationship Id="rId7" Type="http://schemas.openxmlformats.org/officeDocument/2006/relationships/hyperlink" Target="http://www.who.int/" TargetMode="External"/><Relationship Id="rId8" Type="http://schemas.openxmlformats.org/officeDocument/2006/relationships/hyperlink" Target="http://www.heartfoundation.com.au/" TargetMode="External"/><Relationship Id="rId9" Type="http://schemas.openxmlformats.org/officeDocument/2006/relationships/hyperlink" Target="http://www.vichealth.vic.gov.au/" TargetMode="External"/><Relationship Id="rId10" Type="http://schemas.openxmlformats.org/officeDocument/2006/relationships/hyperlink" Target="http://www.championdata.com.au/" TargetMode="External"/><Relationship Id="rId11" Type="http://schemas.openxmlformats.org/officeDocument/2006/relationships/hyperlink" Target="http://www.sportsci.org/" TargetMode="External"/><Relationship Id="rId12" Type="http://schemas.openxmlformats.org/officeDocument/2006/relationships/hyperlink" Target="http://www.pineapplehead.com.au/" TargetMode="External"/><Relationship Id="rId13" Type="http://schemas.openxmlformats.org/officeDocument/2006/relationships/hyperlink" Target="http://www.brianmac.demon.co.uk/eval.htm" TargetMode="Externa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portal.com.au/default.aspx/afl-news-display/saints-restore-respect-30058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72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5916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ata collection and activ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5" descr="015218gallery"/>
          <p:cNvPicPr/>
          <p:nvPr/>
        </p:nvPicPr>
        <p:blipFill>
          <a:blip r:embed="rId1"/>
          <a:stretch/>
        </p:blipFill>
        <p:spPr>
          <a:xfrm>
            <a:off x="5797440" y="1773360"/>
            <a:ext cx="2948040" cy="44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6" name="Text Box 20"/>
          <p:cNvSpPr/>
          <p:nvPr/>
        </p:nvSpPr>
        <p:spPr>
          <a:xfrm>
            <a:off x="250920" y="2421000"/>
            <a:ext cx="30970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x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elson Physical Education VCE Units 3&amp;4: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Malpeli, Horton, Davey and Telford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ive It Up 2: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Smyth, Brown, Judge, McCallum and Pritchard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1" descr="bookCover_34"/>
          <p:cNvPicPr/>
          <p:nvPr/>
        </p:nvPicPr>
        <p:blipFill>
          <a:blip r:embed="rId2"/>
          <a:stretch/>
        </p:blipFill>
        <p:spPr>
          <a:xfrm>
            <a:off x="3564000" y="2565360"/>
            <a:ext cx="1254240" cy="165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2" descr="Live it up 2"/>
          <p:cNvPicPr/>
          <p:nvPr/>
        </p:nvPicPr>
        <p:blipFill>
          <a:blip r:embed="rId3"/>
          <a:stretch/>
        </p:blipFill>
        <p:spPr>
          <a:xfrm>
            <a:off x="3568680" y="4508640"/>
            <a:ext cx="12128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991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Observation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mmediat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ever, no hard evidence to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Observation and s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crete evidence to review in the form of sta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Video recording and s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ideo footage only used after a game – no immediate feedback. Excellent for game re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3185298_10"/>
          <p:cNvPicPr/>
          <p:nvPr/>
        </p:nvPicPr>
        <p:blipFill>
          <a:blip r:embed="rId1"/>
          <a:stretch/>
        </p:blipFill>
        <p:spPr>
          <a:xfrm>
            <a:off x="6227640" y="1830240"/>
            <a:ext cx="2405160" cy="2638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AustNetballTeamPG"/>
          <p:cNvPicPr/>
          <p:nvPr/>
        </p:nvPicPr>
        <p:blipFill>
          <a:blip r:embed="rId2"/>
          <a:stretch/>
        </p:blipFill>
        <p:spPr>
          <a:xfrm>
            <a:off x="5435640" y="4581360"/>
            <a:ext cx="32367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187440"/>
            <a:ext cx="79819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29a744"/>
                </a:solidFill>
                <a:latin typeface="Arial"/>
              </a:rPr>
              <a:t>Types of Data Collecte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ata collection and activ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Interpreting the Dat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5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nce the data has been collected, the analysis can be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nalysis requi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dentifying patterns in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necting pieces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xplaining and classifying series of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5880" y="1676520"/>
            <a:ext cx="425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he analysis of data can determi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ppropriate 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raining method su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raining cycle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arm up and recovery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Swimming"/>
          <p:cNvPicPr/>
          <p:nvPr/>
        </p:nvPicPr>
        <p:blipFill>
          <a:blip r:embed="rId1"/>
          <a:stretch/>
        </p:blipFill>
        <p:spPr>
          <a:xfrm>
            <a:off x="7020000" y="189000"/>
            <a:ext cx="1914480" cy="1276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ycling"/>
          <p:cNvPicPr/>
          <p:nvPr/>
        </p:nvPicPr>
        <p:blipFill>
          <a:blip r:embed="rId2"/>
          <a:stretch/>
        </p:blipFill>
        <p:spPr>
          <a:xfrm>
            <a:off x="4859280" y="4653000"/>
            <a:ext cx="37450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Skill Frequenc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0520" y="1733400"/>
            <a:ext cx="8385120" cy="38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kill frequency charts are used to record the types of skills used and how frequently the occur. The effectiveness of each skill can also be recor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kill frequency 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ore relevant to technical data rather than phys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layer is able to get feedback on thei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ome information on fitness components could be extra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g. Number of changes of direction could determine use of ag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ennis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755640" y="5013360"/>
            <a:ext cx="7704000" cy="1511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Photo Titled Determined Sugiyama "/>
          <p:cNvPicPr/>
          <p:nvPr/>
        </p:nvPicPr>
        <p:blipFill>
          <a:blip r:embed="rId2"/>
          <a:stretch/>
        </p:blipFill>
        <p:spPr>
          <a:xfrm>
            <a:off x="7380360" y="189000"/>
            <a:ext cx="1547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case study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task on page 178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8.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bookCover_34"/>
          <p:cNvPicPr/>
          <p:nvPr/>
        </p:nvPicPr>
        <p:blipFill>
          <a:blip r:embed="rId1"/>
          <a:stretch/>
        </p:blipFill>
        <p:spPr>
          <a:xfrm>
            <a:off x="6948360" y="414972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MMj03545120000[1]"/>
          <p:cNvPicPr/>
          <p:nvPr/>
        </p:nvPicPr>
        <p:blipFill>
          <a:blip r:embed="rId2"/>
          <a:stretch/>
        </p:blipFill>
        <p:spPr>
          <a:xfrm>
            <a:off x="8459640" y="189000"/>
            <a:ext cx="471600" cy="5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Movement Patter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5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ited to free range movement g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quires the charting of a player and plotting their movement details over a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formation can then be used in statistical gr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PS is now being used in major sports (See pi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analysermap"/>
          <p:cNvPicPr/>
          <p:nvPr/>
        </p:nvPicPr>
        <p:blipFill>
          <a:blip r:embed="rId1"/>
          <a:stretch/>
        </p:blipFill>
        <p:spPr>
          <a:xfrm>
            <a:off x="5113440" y="1676520"/>
            <a:ext cx="3801960" cy="4489200"/>
          </a:xfrm>
          <a:prstGeom prst="rect">
            <a:avLst/>
          </a:prstGeom>
          <a:ln w="9360">
            <a:solidFill>
              <a:srgbClr val="1a3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Movement Patter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6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ful in determining muscle groups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eeds to have intensity and duration information to determine energy system and fitness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Video analysis is better for analysing movement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716360" y="1676520"/>
            <a:ext cx="4137120" cy="4560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2"/>
          <a:stretch/>
        </p:blipFill>
        <p:spPr>
          <a:xfrm>
            <a:off x="7667640" y="1700280"/>
            <a:ext cx="117324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826920" y="1697040"/>
            <a:ext cx="8066160" cy="49309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Sample Movement Patter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SPI Elite (GPS Sports Produc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14368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PSports technology provides objective information on a player's speed, distance travelled, changes of direction, impacts and heart r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is information can then be used to modify training volumes and intensities and compare player or positional work-rates and work-lo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9" descr="GPSports 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2305080"/>
            <a:ext cx="1801800" cy="1077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AFL Player wearing SPI Elite"/>
          <p:cNvPicPr/>
          <p:nvPr/>
        </p:nvPicPr>
        <p:blipFill>
          <a:blip r:embed="rId3"/>
          <a:stretch/>
        </p:blipFill>
        <p:spPr>
          <a:xfrm>
            <a:off x="5364000" y="3645000"/>
            <a:ext cx="3313440" cy="2571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SPI Elite in Hand"/>
          <p:cNvPicPr/>
          <p:nvPr/>
        </p:nvPicPr>
        <p:blipFill>
          <a:blip r:embed="rId4"/>
          <a:stretch/>
        </p:blipFill>
        <p:spPr>
          <a:xfrm>
            <a:off x="7380360" y="1844640"/>
            <a:ext cx="1171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Work to Rest Ratio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mpares the amount of time working in comparison to time spent r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mmon ratio is 1:3 in team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seful in determining contribution of energy systems and the type of training to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fferent positions in team sports have different work to rest rat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2124000" y="4292640"/>
            <a:ext cx="4175280" cy="224784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178" name="Picture 6" descr="Netball Attack"/>
          <p:cNvPicPr/>
          <p:nvPr/>
        </p:nvPicPr>
        <p:blipFill>
          <a:blip r:embed="rId2"/>
          <a:stretch/>
        </p:blipFill>
        <p:spPr>
          <a:xfrm>
            <a:off x="6588000" y="4292640"/>
            <a:ext cx="20876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6237360" cy="50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y collect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etermine fitness and physiological requirements of an activity or 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ata is usually based on elite performers and can require specialist equipment such as GPS trac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ndividuals or teams can narrow the gap resulting in improv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does the data s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he data helps determine what skills and attributes that are needed in a particular sport for a successful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AFL GPS"/>
          <p:cNvPicPr/>
          <p:nvPr/>
        </p:nvPicPr>
        <p:blipFill>
          <a:blip r:embed="rId1"/>
          <a:stretch/>
        </p:blipFill>
        <p:spPr>
          <a:xfrm>
            <a:off x="6948360" y="1989000"/>
            <a:ext cx="1729080" cy="201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9" descr="j0283773"/>
          <p:cNvPicPr/>
          <p:nvPr/>
        </p:nvPicPr>
        <p:blipFill>
          <a:blip r:embed="rId2"/>
          <a:stretch/>
        </p:blipFill>
        <p:spPr>
          <a:xfrm>
            <a:off x="7596360" y="333360"/>
            <a:ext cx="1079280" cy="998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0" descr="green_and_gold"/>
          <p:cNvPicPr/>
          <p:nvPr/>
        </p:nvPicPr>
        <p:blipFill>
          <a:blip r:embed="rId3"/>
          <a:stretch/>
        </p:blipFill>
        <p:spPr>
          <a:xfrm>
            <a:off x="6948360" y="4221000"/>
            <a:ext cx="1808280" cy="2270160"/>
          </a:xfrm>
          <a:prstGeom prst="rect">
            <a:avLst/>
          </a:prstGeom>
          <a:ln w="0">
            <a:noFill/>
          </a:ln>
        </p:spPr>
      </p:pic>
      <p:sp>
        <p:nvSpPr>
          <p:cNvPr id="95" name="Line 21"/>
          <p:cNvSpPr/>
          <p:nvPr/>
        </p:nvSpPr>
        <p:spPr>
          <a:xfrm>
            <a:off x="6084720" y="2997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ombined Work-Rest Ratio and Intens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5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ntensity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ymbols are allocated to the intensities observed during an activity or g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chart could use symbols such as (H) high, (M) medium or (L) low inten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t intervals can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ery useful in determining energy systems and fitness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5880" y="1676520"/>
            <a:ext cx="425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ombined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quires constant monitoring of the athle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bserving intensity levels and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bserving length of rest periods before next action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ives an accurate account of energy system interp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ee table 8.5 p.1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ee table 8.6 p.1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8099280" cy="48243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AFL Data from One Quart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ablett"/>
          <p:cNvPicPr/>
          <p:nvPr/>
        </p:nvPicPr>
        <p:blipFill>
          <a:blip r:embed="rId2"/>
          <a:stretch/>
        </p:blipFill>
        <p:spPr>
          <a:xfrm>
            <a:off x="1187280" y="3645000"/>
            <a:ext cx="223848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aboratory tasks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on page 181,182 and 184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8.3, 8.4 and 8.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bookCover_34"/>
          <p:cNvPicPr/>
          <p:nvPr/>
        </p:nvPicPr>
        <p:blipFill>
          <a:blip r:embed="rId1"/>
          <a:stretch/>
        </p:blipFill>
        <p:spPr>
          <a:xfrm>
            <a:off x="6948360" y="414972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MMj03545120000[1]"/>
          <p:cNvPicPr/>
          <p:nvPr/>
        </p:nvPicPr>
        <p:blipFill>
          <a:blip r:embed="rId2"/>
          <a:stretch/>
        </p:blipFill>
        <p:spPr>
          <a:xfrm>
            <a:off x="8459640" y="189000"/>
            <a:ext cx="471600" cy="5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Heart Rate Zon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5600" y="1801800"/>
            <a:ext cx="35906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R monitors use is widespread in 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thletes should train in the training z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Max HR = 220 -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aerobic zone – 85% max 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erobic zone – 70-85% max 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covery zone – Below 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exercise-zones"/>
          <p:cNvPicPr/>
          <p:nvPr/>
        </p:nvPicPr>
        <p:blipFill>
          <a:blip r:embed="rId1"/>
          <a:stretch/>
        </p:blipFill>
        <p:spPr>
          <a:xfrm>
            <a:off x="4656240" y="1676520"/>
            <a:ext cx="4259160" cy="44164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Heart Rate Dat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eart r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etermines intensity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Needs additional data on duration and work-rest ratio to be use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See table 8.10 p.1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See tables 8.12 &amp; 8.13 p.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tretch/>
        </p:blipFill>
        <p:spPr>
          <a:xfrm>
            <a:off x="1042920" y="4221000"/>
            <a:ext cx="7705800" cy="2283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8097840" cy="475128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3"/>
          <p:cNvSpPr/>
          <p:nvPr/>
        </p:nvSpPr>
        <p:spPr>
          <a:xfrm>
            <a:off x="4500720" y="6237360"/>
            <a:ext cx="936360" cy="216000"/>
          </a:xfrm>
          <a:prstGeom prst="wedgeRectCallout">
            <a:avLst>
              <a:gd name="adj1" fmla="val -8643"/>
              <a:gd name="adj2" fmla="val -187500"/>
            </a:avLst>
          </a:prstGeom>
          <a:solidFill>
            <a:srgbClr val="93d5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cro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Comment 4"/>
          <p:cNvSpPr/>
          <p:nvPr/>
        </p:nvSpPr>
        <p:spPr>
          <a:xfrm>
            <a:off x="1116000" y="549360"/>
            <a:ext cx="7796160" cy="5544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Arial"/>
              </a:rPr>
              <a:t>Heart Rate response to altitude and speed: 13.2km Puffing Billy Fun Run 6/5/07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Pedomet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06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an be used to meas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stance trav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alories exp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R (In more expensive mod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mmonly used as a motivational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0" descr="walking"/>
          <p:cNvPicPr/>
          <p:nvPr/>
        </p:nvPicPr>
        <p:blipFill>
          <a:blip r:embed="rId1"/>
          <a:stretch/>
        </p:blipFill>
        <p:spPr>
          <a:xfrm>
            <a:off x="5580000" y="1844640"/>
            <a:ext cx="3276720" cy="39625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187440"/>
            <a:ext cx="79819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29a744"/>
                </a:solidFill>
                <a:latin typeface="Arial"/>
              </a:rPr>
              <a:t>Virtual Spectato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556731"/>
                </a:solidFill>
                <a:uFillTx/>
                <a:latin typeface="Arial"/>
                <a:hlinkClick r:id="rId1"/>
              </a:rPr>
              <a:t>http://www.virtualspectator.com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bservation and Statistical Data Coll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scoreboard_cricket_large2"/>
          <p:cNvPicPr/>
          <p:nvPr/>
        </p:nvPicPr>
        <p:blipFill>
          <a:blip r:embed="rId1"/>
          <a:stretch/>
        </p:blipFill>
        <p:spPr>
          <a:xfrm>
            <a:off x="368280" y="1733400"/>
            <a:ext cx="4222800" cy="23781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4262040"/>
            <a:ext cx="868680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dvantage of additional statistical da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vidence that supports observation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g. Stopwatch and recording 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echnology is being used to collect and collate data more rapid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g. Virtual spectator and champion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scoreboard_cricket_large1"/>
          <p:cNvPicPr/>
          <p:nvPr/>
        </p:nvPicPr>
        <p:blipFill>
          <a:blip r:embed="rId2"/>
          <a:stretch/>
        </p:blipFill>
        <p:spPr>
          <a:xfrm>
            <a:off x="5076720" y="1700280"/>
            <a:ext cx="36975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AFL PlayTrac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playtrac_afl_large1"/>
          <p:cNvPicPr/>
          <p:nvPr/>
        </p:nvPicPr>
        <p:blipFill>
          <a:blip r:embed="rId1"/>
          <a:stretch/>
        </p:blipFill>
        <p:spPr>
          <a:xfrm>
            <a:off x="900000" y="1844640"/>
            <a:ext cx="3672000" cy="1784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playtrac_afl_large2"/>
          <p:cNvPicPr/>
          <p:nvPr/>
        </p:nvPicPr>
        <p:blipFill>
          <a:blip r:embed="rId2"/>
          <a:stretch/>
        </p:blipFill>
        <p:spPr>
          <a:xfrm>
            <a:off x="1692360" y="3716280"/>
            <a:ext cx="6265800" cy="2871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playtrac_afl_large"/>
          <p:cNvPicPr/>
          <p:nvPr/>
        </p:nvPicPr>
        <p:blipFill>
          <a:blip r:embed="rId3"/>
          <a:stretch/>
        </p:blipFill>
        <p:spPr>
          <a:xfrm>
            <a:off x="4859280" y="1844640"/>
            <a:ext cx="3745080" cy="1747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afl_playtrac_heading"/>
          <p:cNvPicPr/>
          <p:nvPr/>
        </p:nvPicPr>
        <p:blipFill>
          <a:blip r:embed="rId4"/>
          <a:stretch/>
        </p:blipFill>
        <p:spPr>
          <a:xfrm>
            <a:off x="7812000" y="189000"/>
            <a:ext cx="114156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6335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Useful Information for Coach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8292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information would be useful for an athlete or their coa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hysical* – Physiological fitnes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ental – Psychological preparation/ ability to cope with game day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echnical – Skill level under fatigue and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actical – Decision making under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4440" y="1676520"/>
            <a:ext cx="426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e will concentrate on the physical inform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Fitness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nerg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uscle groups and anato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ovement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ork to rest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pponents strengths and weak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iomecha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raining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mick_malthouse,0"/>
          <p:cNvPicPr/>
          <p:nvPr/>
        </p:nvPicPr>
        <p:blipFill>
          <a:blip r:embed="rId1"/>
          <a:stretch/>
        </p:blipFill>
        <p:spPr>
          <a:xfrm>
            <a:off x="7740720" y="4941720"/>
            <a:ext cx="1192320" cy="1687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rodneyeade"/>
          <p:cNvPicPr/>
          <p:nvPr/>
        </p:nvPicPr>
        <p:blipFill>
          <a:blip r:embed="rId2"/>
          <a:stretch/>
        </p:blipFill>
        <p:spPr>
          <a:xfrm>
            <a:off x="971640" y="5084640"/>
            <a:ext cx="2232000" cy="1359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r45690_118830"/>
          <p:cNvPicPr/>
          <p:nvPr/>
        </p:nvPicPr>
        <p:blipFill>
          <a:blip r:embed="rId3"/>
          <a:stretch/>
        </p:blipFill>
        <p:spPr>
          <a:xfrm>
            <a:off x="6948360" y="189000"/>
            <a:ext cx="1927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2" descr="cricket_3dvr_large1"/>
          <p:cNvPicPr/>
          <p:nvPr/>
        </p:nvPicPr>
        <p:blipFill>
          <a:blip r:embed="rId1"/>
          <a:stretch/>
        </p:blipFill>
        <p:spPr>
          <a:xfrm>
            <a:off x="1042920" y="1773360"/>
            <a:ext cx="3776760" cy="2087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ricket_3dvr_large4"/>
          <p:cNvPicPr/>
          <p:nvPr/>
        </p:nvPicPr>
        <p:blipFill>
          <a:blip r:embed="rId2"/>
          <a:stretch/>
        </p:blipFill>
        <p:spPr>
          <a:xfrm>
            <a:off x="1042920" y="4005360"/>
            <a:ext cx="3745080" cy="2232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tv_cricket_large1"/>
          <p:cNvPicPr/>
          <p:nvPr/>
        </p:nvPicPr>
        <p:blipFill>
          <a:blip r:embed="rId3"/>
          <a:stretch/>
        </p:blipFill>
        <p:spPr>
          <a:xfrm>
            <a:off x="5003640" y="4005360"/>
            <a:ext cx="3780000" cy="2232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tv_cricket_large2"/>
          <p:cNvPicPr/>
          <p:nvPr/>
        </p:nvPicPr>
        <p:blipFill>
          <a:blip r:embed="rId4"/>
          <a:stretch/>
        </p:blipFill>
        <p:spPr>
          <a:xfrm>
            <a:off x="4932360" y="1700280"/>
            <a:ext cx="3816360" cy="2160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Cricket Super Sco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" descr="cricketsuperscore_heading1"/>
          <p:cNvPicPr/>
          <p:nvPr/>
        </p:nvPicPr>
        <p:blipFill>
          <a:blip r:embed="rId5"/>
          <a:stretch/>
        </p:blipFill>
        <p:spPr>
          <a:xfrm>
            <a:off x="7812000" y="189000"/>
            <a:ext cx="114156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9a744"/>
                </a:solidFill>
                <a:latin typeface="Arial"/>
              </a:rPr>
              <a:t>Activity Analysis </a:t>
            </a:r>
            <a:br>
              <a:rPr sz="4000"/>
            </a:br>
            <a:r>
              <a:rPr b="1" lang="en-AU" sz="4000" spc="-1" strike="noStrike">
                <a:solidFill>
                  <a:srgbClr val="29a744"/>
                </a:solidFill>
                <a:latin typeface="Arial"/>
              </a:rPr>
              <a:t>Football Rover TAC Cu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ata collection and activ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Heart Rate &amp; Playing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8137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Skill Frequenc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50920" y="1773360"/>
          <a:ext cx="8686800" cy="2806560"/>
        </p:xfrm>
        <a:graphic>
          <a:graphicData uri="http://schemas.openxmlformats.org/drawingml/2006/table">
            <a:tbl>
              <a:tblPr/>
              <a:tblGrid>
                <a:gridCol w="1157040"/>
                <a:gridCol w="547920"/>
                <a:gridCol w="623880"/>
                <a:gridCol w="704880"/>
                <a:gridCol w="625320"/>
                <a:gridCol w="703440"/>
                <a:gridCol w="625320"/>
                <a:gridCol w="546120"/>
                <a:gridCol w="547560"/>
                <a:gridCol w="547920"/>
                <a:gridCol w="938160"/>
                <a:gridCol w="1119240"/>
              </a:tblGrid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c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ba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/Ba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s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2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-3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-4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-5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+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236" name="Picture 3541" descr="title_tac"/>
          <p:cNvPicPr/>
          <p:nvPr/>
        </p:nvPicPr>
        <p:blipFill>
          <a:blip r:embed="rId1"/>
          <a:stretch/>
        </p:blipFill>
        <p:spPr>
          <a:xfrm>
            <a:off x="971640" y="4797360"/>
            <a:ext cx="777708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Additional Skill Analy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68360" y="1700280"/>
          <a:ext cx="4736880" cy="4489560"/>
        </p:xfrm>
        <a:graphic>
          <a:graphicData uri="http://schemas.openxmlformats.org/drawingml/2006/table">
            <a:tbl>
              <a:tblPr/>
              <a:tblGrid>
                <a:gridCol w="2801880"/>
                <a:gridCol w="193500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ead/Airbo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k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mp/Pu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ng to Ground/P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ional Cha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ops from gr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240" name="Picture 139" descr="Bendigo-Pioneers"/>
          <p:cNvPicPr/>
          <p:nvPr/>
        </p:nvPicPr>
        <p:blipFill>
          <a:blip r:embed="rId1"/>
          <a:stretch/>
        </p:blipFill>
        <p:spPr>
          <a:xfrm>
            <a:off x="5580000" y="1700280"/>
            <a:ext cx="31003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AU" sz="4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 Quarter Locomotor Patter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28600" y="1844640"/>
          <a:ext cx="8686800" cy="438300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  <a:gridCol w="14479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u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/4 Pa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1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5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-2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-25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+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2 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7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3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7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SPI Elite Resul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209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questions 1-5 page 188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bookCover_34"/>
          <p:cNvPicPr/>
          <p:nvPr/>
        </p:nvPicPr>
        <p:blipFill>
          <a:blip r:embed="rId1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j0283719"/>
          <p:cNvPicPr/>
          <p:nvPr/>
        </p:nvPicPr>
        <p:blipFill>
          <a:blip r:embed="rId2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the review questions 1-5 page 191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 Knowledg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bookCover_34"/>
          <p:cNvPicPr/>
          <p:nvPr/>
        </p:nvPicPr>
        <p:blipFill>
          <a:blip r:embed="rId1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j0236235"/>
          <p:cNvPicPr/>
          <p:nvPr/>
        </p:nvPicPr>
        <p:blipFill>
          <a:blip r:embed="rId2"/>
          <a:stretch/>
        </p:blipFill>
        <p:spPr>
          <a:xfrm>
            <a:off x="8242200" y="189000"/>
            <a:ext cx="58752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ccff66"/>
          </a:solidFill>
          <a:ln w="9360">
            <a:solidFill>
              <a:srgbClr val="00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the chapter questions on page 58-62 of Nelson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Peak Performance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k Performan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j0236235"/>
          <p:cNvPicPr/>
          <p:nvPr/>
        </p:nvPicPr>
        <p:blipFill>
          <a:blip r:embed="rId1"/>
          <a:stretch/>
        </p:blipFill>
        <p:spPr>
          <a:xfrm>
            <a:off x="8242200" y="189000"/>
            <a:ext cx="587520" cy="792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Peak Perf"/>
          <p:cNvPicPr/>
          <p:nvPr/>
        </p:nvPicPr>
        <p:blipFill>
          <a:blip r:embed="rId2"/>
          <a:stretch/>
        </p:blipFill>
        <p:spPr>
          <a:xfrm>
            <a:off x="7289640" y="4581360"/>
            <a:ext cx="1258920" cy="17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9a744"/>
                </a:solidFill>
                <a:latin typeface="Arial"/>
              </a:rPr>
              <a:t>Methods of Data Colle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ata collection and activ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ad the summarised information of pages 68-80 of PHYS ED Notes and complete the revision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 ED Not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7" descr="physed-notes3_4"/>
          <p:cNvPicPr/>
          <p:nvPr/>
        </p:nvPicPr>
        <p:blipFill>
          <a:blip r:embed="rId1"/>
          <a:stretch/>
        </p:blipFill>
        <p:spPr>
          <a:xfrm>
            <a:off x="7209000" y="4365720"/>
            <a:ext cx="1430280" cy="20192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MMAG00299_0000[1]"/>
          <p:cNvPicPr/>
          <p:nvPr/>
        </p:nvPicPr>
        <p:blipFill>
          <a:blip r:embed="rId2"/>
          <a:stretch/>
        </p:blipFill>
        <p:spPr>
          <a:xfrm>
            <a:off x="7740720" y="260280"/>
            <a:ext cx="113508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a74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VCAA Questions - 200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86800" cy="2033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2"/>
          <a:stretch/>
        </p:blipFill>
        <p:spPr>
          <a:xfrm>
            <a:off x="6084720" y="5661000"/>
            <a:ext cx="2643480" cy="720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firstbounce"/>
          <p:cNvPicPr/>
          <p:nvPr/>
        </p:nvPicPr>
        <p:blipFill>
          <a:blip r:embed="rId3"/>
          <a:stretch/>
        </p:blipFill>
        <p:spPr>
          <a:xfrm>
            <a:off x="324000" y="4005360"/>
            <a:ext cx="57607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Web Links – Chapter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0" y="1562040"/>
            <a:ext cx="9144000" cy="4533480"/>
            <a:chOff x="0" y="1562040"/>
            <a:chExt cx="9144000" cy="4533480"/>
          </a:xfrm>
        </p:grpSpPr>
        <p:sp>
          <p:nvSpPr>
            <p:cNvPr id="275" name="Rectangle 4"/>
            <p:cNvSpPr/>
            <p:nvPr/>
          </p:nvSpPr>
          <p:spPr>
            <a:xfrm>
              <a:off x="0" y="1562040"/>
              <a:ext cx="9144000" cy="4533480"/>
            </a:xfrm>
            <a:prstGeom prst="rect">
              <a:avLst/>
            </a:prstGeom>
            <a:solidFill>
              <a:srgbClr val="b7b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5"/>
            <p:cNvGrpSpPr/>
            <p:nvPr/>
          </p:nvGrpSpPr>
          <p:grpSpPr>
            <a:xfrm>
              <a:off x="0" y="1562040"/>
              <a:ext cx="9144000" cy="4533120"/>
              <a:chOff x="0" y="1562040"/>
              <a:chExt cx="9144000" cy="4533120"/>
            </a:xfrm>
          </p:grpSpPr>
          <p:grpSp>
            <p:nvGrpSpPr>
              <p:cNvPr id="277" name="Group 6"/>
              <p:cNvGrpSpPr/>
              <p:nvPr/>
            </p:nvGrpSpPr>
            <p:grpSpPr>
              <a:xfrm>
                <a:off x="0" y="1562040"/>
                <a:ext cx="9144000" cy="3688200"/>
                <a:chOff x="0" y="1562040"/>
                <a:chExt cx="9144000" cy="3688200"/>
              </a:xfrm>
            </p:grpSpPr>
            <p:sp>
              <p:nvSpPr>
                <p:cNvPr id="278" name="Rectangle 7"/>
                <p:cNvSpPr/>
                <p:nvPr/>
              </p:nvSpPr>
              <p:spPr>
                <a:xfrm>
                  <a:off x="0" y="1562040"/>
                  <a:ext cx="360" cy="36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Rectangle 8"/>
                <p:cNvSpPr/>
                <p:nvPr/>
              </p:nvSpPr>
              <p:spPr>
                <a:xfrm>
                  <a:off x="0" y="1562040"/>
                  <a:ext cx="9144000" cy="368820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ustralian Sports Commiss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"/>
                    </a:rPr>
                    <a:t>http://www.auspo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Find 30 promotion (Government of WA Department of Health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"/>
                    </a:rPr>
                    <a:t>http://www.find30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alking School Bus promotion (UK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"/>
                    </a:rPr>
                    <a:t>http://www.walkingbus.co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Ministry of Health (New Zealand) toolkits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"/>
                    </a:rPr>
                    <a:t>http://www.newhealth.govt.nz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he 10,000 Steps Rockhampton project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5"/>
                    </a:rPr>
                    <a:t>http://www.10000steps.org.au/rockhampton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ravelsmart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6"/>
                    </a:rPr>
                    <a:t>http://www.travelsma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orld Health Organisat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7"/>
                    </a:rPr>
                    <a:t>http://www.who.int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rt Foundation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8"/>
                    </a:rPr>
                    <a:t>http://www.heartfoundation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VicHealth (The Victorian Health Promotion Foundation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9"/>
                    </a:rPr>
                    <a:t>http://www.vichealth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Go For Your Life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goforyourlife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hysical Activity Resources for Health Professionals 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–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Introduction (Centre for disease control and prevention 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–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US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cdc.gov/nccdphp/dnpa/physical/health_professionals/index.ht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 Promotion (Public Health Agency of Canad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phac-aspc.gc.ca/hp-ps/index.html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trategic Inter-Governmental Forum on Physical Activity and Health (SIGPAH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nphp.gov.au/workprog/sigpah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y youth (Centre for disease control and prevention (US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cdc.gov/HealthyYouth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merica On The Move promotion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americaonthemove.org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apers from the International Journal of Behavioural Nutrition and Physical Activity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ijbnpa.org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Department of health and aging (Australian government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health.gov.au/internet/wcms/publishing.nsf/content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uilding a healthy, active Australia (Australian government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healthyactive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National Public Health Partnership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nphp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port and Recreation Australia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sport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Rectangle 9"/>
              <p:cNvSpPr/>
              <p:nvPr/>
            </p:nvSpPr>
            <p:spPr>
              <a:xfrm>
                <a:off x="0" y="1562040"/>
                <a:ext cx="9144000" cy="4533120"/>
              </a:xfrm>
              <a:prstGeom prst="rect">
                <a:avLst/>
              </a:prstGeom>
              <a:solidFill>
                <a:srgbClr val="b7be19"/>
              </a:solidFill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1" name="Rectangle 10"/>
          <p:cNvSpPr/>
          <p:nvPr/>
        </p:nvSpPr>
        <p:spPr>
          <a:xfrm>
            <a:off x="0" y="1752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0" y="12952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hampion Data: </a:t>
            </a:r>
            <a:r>
              <a:rPr b="0" lang="en-AU" sz="24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10"/>
              </a:rPr>
              <a:t>http://www.championdata.com.au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Sport science (site for sports research): </a:t>
            </a:r>
            <a:r>
              <a:rPr b="0" lang="en-AU" sz="24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11"/>
              </a:rPr>
              <a:t>http://www.sportsci.org/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Spectator: </a:t>
            </a:r>
            <a:r>
              <a:rPr b="0" lang="en-AU" sz="24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12"/>
              </a:rPr>
              <a:t>http://www.pineapplehead.com.au/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orts Coach UK – evaluation: </a:t>
            </a:r>
            <a:r>
              <a:rPr b="0" lang="en-AU" sz="24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13"/>
              </a:rPr>
              <a:t>http://www.brianmac.demon.co.uk/eval.htm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36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dividual sports are easier to observe than large team s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nitors give feedback to the athlete in regards to their performance. This feedback can then be used to make adjustments during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Quality of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xperience and knowledge in the particular sport will benefit observational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s can be affected by prejudice, perceptions and conditions the observations were made u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&#10;Slow starts not so bad, says Swans coach"/>
          <p:cNvPicPr/>
          <p:nvPr/>
        </p:nvPicPr>
        <p:blipFill>
          <a:blip r:embed="rId1"/>
          <a:stretch/>
        </p:blipFill>
        <p:spPr>
          <a:xfrm>
            <a:off x="1187280" y="5448240"/>
            <a:ext cx="1656000" cy="1109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krzyzewsky_main"/>
          <p:cNvPicPr/>
          <p:nvPr/>
        </p:nvPicPr>
        <p:blipFill>
          <a:blip r:embed="rId2"/>
          <a:stretch/>
        </p:blipFill>
        <p:spPr>
          <a:xfrm>
            <a:off x="7451640" y="189000"/>
            <a:ext cx="1363680" cy="1366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cricket"/>
          <p:cNvPicPr/>
          <p:nvPr/>
        </p:nvPicPr>
        <p:blipFill>
          <a:blip r:embed="rId3"/>
          <a:stretch/>
        </p:blipFill>
        <p:spPr>
          <a:xfrm>
            <a:off x="7164360" y="5300640"/>
            <a:ext cx="15843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Observation or Spectator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bserver or spectat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pectators can be useful observers as they follow the flow of the g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aches need to also selectively attend to each of the their players to watch for off the ball positio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bservation Pa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number of panel members can be used to observe in specialist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is allows for immediate feedback to the team. However ‘group think’ may be used to please the c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Saints restore respec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149720"/>
            <a:ext cx="3527280" cy="2048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r18402_45387"/>
          <p:cNvPicPr/>
          <p:nvPr/>
        </p:nvPicPr>
        <p:blipFill>
          <a:blip r:embed="rId3"/>
          <a:stretch/>
        </p:blipFill>
        <p:spPr>
          <a:xfrm>
            <a:off x="5724360" y="4149720"/>
            <a:ext cx="309564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aboratory task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on page 173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8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bookCover_34"/>
          <p:cNvPicPr/>
          <p:nvPr/>
        </p:nvPicPr>
        <p:blipFill>
          <a:blip r:embed="rId1"/>
          <a:stretch/>
        </p:blipFill>
        <p:spPr>
          <a:xfrm>
            <a:off x="6948360" y="414972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MMj03545120000[1]"/>
          <p:cNvPicPr/>
          <p:nvPr/>
        </p:nvPicPr>
        <p:blipFill>
          <a:blip r:embed="rId2"/>
          <a:stretch/>
        </p:blipFill>
        <p:spPr>
          <a:xfrm>
            <a:off x="8459640" y="189000"/>
            <a:ext cx="471600" cy="5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questions 1-2 page 174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bookCover_34"/>
          <p:cNvPicPr/>
          <p:nvPr/>
        </p:nvPicPr>
        <p:blipFill>
          <a:blip r:embed="rId1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j0283719"/>
          <p:cNvPicPr/>
          <p:nvPr/>
        </p:nvPicPr>
        <p:blipFill>
          <a:blip r:embed="rId2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Video taping combined with observation and st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06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dvantag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ore reliable than observation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llows passages to plays to be analysed in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thletes need to be keep in view at all times to judge physica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Videos can be played at various speeds when analysing skill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erves as a future comparison and possibly as a motivator (Eg. Grand final win or lo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elevision has designed new inventive ways of viewing sport which provides coaches with some useful information eg. Stump c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21440" y="990720"/>
            <a:ext cx="3922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SteveWaughcalfbefore"/>
          <p:cNvPicPr/>
          <p:nvPr/>
        </p:nvPicPr>
        <p:blipFill>
          <a:blip r:embed="rId1"/>
          <a:stretch/>
        </p:blipFill>
        <p:spPr>
          <a:xfrm>
            <a:off x="7812000" y="189000"/>
            <a:ext cx="1028880" cy="1368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w462"/>
          <p:cNvPicPr/>
          <p:nvPr/>
        </p:nvPicPr>
        <p:blipFill>
          <a:blip r:embed="rId2"/>
          <a:stretch/>
        </p:blipFill>
        <p:spPr>
          <a:xfrm>
            <a:off x="5364000" y="1844640"/>
            <a:ext cx="3565800" cy="2924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0,,5678467,00"/>
          <p:cNvPicPr/>
          <p:nvPr/>
        </p:nvPicPr>
        <p:blipFill>
          <a:blip r:embed="rId3"/>
          <a:stretch/>
        </p:blipFill>
        <p:spPr>
          <a:xfrm>
            <a:off x="6227640" y="4797360"/>
            <a:ext cx="267840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5:59:28Z</dcterms:created>
  <dc:creator>DE&amp;T User</dc:creator>
  <dc:description/>
  <dc:language>en-US</dc:language>
  <cp:lastModifiedBy>08311469</cp:lastModifiedBy>
  <dcterms:modified xsi:type="dcterms:W3CDTF">2008-06-17T07:40:31Z</dcterms:modified>
  <cp:revision>154</cp:revision>
  <dc:subject/>
  <dc:title>Unit 4</dc:title>
</cp:coreProperties>
</file>